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071-10BA-4BD9-B8FD-5FB80EF4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961-3D18-4921-8282-A4FDBF49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C62-CE03-4E18-AC12-90E28D03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FA2-19FE-4295-BF15-BDD87365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E1F6-7312-4158-96E8-7B40CF16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BF98-CEDE-474F-B8F3-B7DD9378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EB0A-6420-41B4-9B29-E0B6C9EA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BDB7-ED76-4F73-AD76-3F8A7273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0048-7FB8-43E9-B354-0B41A4D9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C2EC-A7F7-4DB2-AAC0-9145BF92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A8C1-E65F-4575-9B4C-763A918C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B25-0322-44CB-89CA-8FAF0BA2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A14B-DD30-42F8-969C-8AC78F18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4D4A-AB63-43AE-AEB5-9DCA25FF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C7B4-4E03-432F-8A4D-0149C170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F452-3950-45C0-83C5-49D65812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EA09-09D2-4BF9-96F3-51E05318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7C5B0-8E58-4471-9F9E-0A5CE167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48587-C074-464E-8058-2AC94368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41F37-9CD0-4E70-84FE-18EF7EE4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7084C-B3BD-4B2D-BB18-D117ADE4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1664D-9F85-4B6A-A0ED-B1DE8798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F70-64FB-4797-AC44-6CC59A83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04F91-BD1D-43D6-ADCD-2DC48BA3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23A6F-7C04-4163-B15A-B8F297D8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31A58-89C9-48A2-8169-1A9722EF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3917A-342E-462E-81AE-36164DEE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C4585-13D0-4134-855E-6A5C0757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ABA67-6D38-4FF8-AD9D-0D6AFFF2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35142-7825-4F20-A193-01E19DAA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FB9A0-0B1C-4CB7-A924-C33DA0D0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BD774-6820-4C19-8319-34C027AD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C9198-E362-4645-9F14-3B6F895B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00F-1362-44F6-B328-8992ACD2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E5F1B-6A61-45A2-9EC5-2677E68A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52433-DBA3-4594-B823-6353A51C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82E0A-CA5A-43B4-81E3-DEDD933F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08FFB-56F5-4C1A-AA09-BD6C4E9B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29294-210E-411C-B145-F496D86A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C21B0-619F-429B-90F1-63F43132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133D5-8175-4311-89E1-3A8AB006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1DEEB-D695-407A-99B8-7DFAF008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6B688-0BE3-4F6E-BC5D-0F55471A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B003FD-260E-442F-B855-46416E57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6DC-CEE9-4F8F-A067-F1D7C1E3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CCF7E1-B5C9-48D9-8B43-2AC7DB38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96B8F-142D-4732-9EFE-2BEE2284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A463EB-6E71-4806-AD0D-0F4E3A09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CFED3-72BE-4588-9DEA-F6255760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BB0C05-F0FF-43C0-A087-945F1072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AFA2E-A847-4F53-8896-8F8104E4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CFC64B-9B7A-4FEA-B5D4-24FA4307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24BD85-874A-4EB9-9746-7668331B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45A0C6-E879-425F-A169-109AB377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7E59A-88C9-4D54-8762-5265446D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D65-65CC-4F9F-A5EA-7F3256A7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E178E-ACFF-48D6-9C6A-43743F8C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277D5F-C9F7-458E-A122-0FAAA890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B1C92B-10DB-421C-B68F-993BF8D6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1677A-E4E2-471C-9BF4-541161E2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3E63AE-5FC7-4040-A6AA-FDA4ABA5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829264-A4B0-468D-B95E-5855BD1B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990A4-A8AF-4300-BE6C-57A166B9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FEE37A-8909-45F1-96E9-1EA0FC89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1BD23-A369-4CC7-92F9-8DB46125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60F2BA-10CC-4085-BC6B-32B362B2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261-8CAD-4FA8-9893-946114E1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10218C-2454-46C0-9A35-9E55D55D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3089B-7B84-4AE3-BDBC-83DD14D0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8402F5-7D3E-490F-8500-BC175A3E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EB716C-DD11-4CF6-B54A-48E4BE06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57CF55-D1D1-41AE-BA05-943872D5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32436-77B6-401E-8593-ABF41C69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8DCA72-BC13-4127-A2CD-0354DDAB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204174-519E-42E9-A4CE-6E732929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065FD0-D280-44AC-AC19-5468A6BB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DC3E05-FA6B-4344-8D16-F0A6578E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8BE-93CD-4EEE-B4A2-851493EB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34286E-0938-4A23-ABD8-02A58739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D64CBE-488E-4C1E-B65D-24A0592E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EC8FE0-9922-4DC3-A27F-48056CC5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FE90FA-02DC-4801-92A4-787B6A04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18C446-2F25-46C5-AB8C-2FE08B60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AEA-5426-4086-8940-4CB97788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5935-F667-47B3-B302-7D88BC9F6D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4C0A-8CB4-4414-A7A8-B260DF19FEC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38B0-CD3D-4FA3-97FF-8D610966F79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497E-08EF-4B05-A10D-FFBA72D4C79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6657-7955-4372-BC67-7592C831CD3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0F2E-931D-40AA-A12B-7C1DDA4FD85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8261-0574-41B5-B57D-01873A8D3A5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28920" y="285480"/>
            <a:ext cx="6500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И ТРЕВОГИ И СТРАХА: СРАВНИТЕЛЬНАЯ ХАРАКТЕРИСТИ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 rot="21285600">
            <a:off x="5357880" y="1643040"/>
            <a:ext cx="3413160" cy="257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 rot="541800">
            <a:off x="2144520" y="4540320"/>
            <a:ext cx="3166920" cy="2081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 rot="1005600">
            <a:off x="500040" y="428760"/>
            <a:ext cx="1776600" cy="2357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4"/>
          <a:stretch/>
        </p:blipFill>
        <p:spPr>
          <a:xfrm rot="20731800">
            <a:off x="2499840" y="1857240"/>
            <a:ext cx="226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3920" y="357120"/>
            <a:ext cx="6829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ТРЕВОЖНОСТ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43000"/>
            <a:ext cx="82580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эмоциональное переживани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сихологическая особенность, устойчивое свойство человека, характерная для него черт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 rot="211200">
            <a:off x="433440" y="3832200"/>
            <a:ext cx="3929040" cy="2611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 rot="21229200">
            <a:off x="4838400" y="3839760"/>
            <a:ext cx="37861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6357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ЖНОСТЬ И СТРАХ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3840" y="928800"/>
            <a:ext cx="854388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итерии различ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конкретности угрозы, опасности, на которую реагирует челов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угроз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реагирования челове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ь организации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внутренней напряженност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ительност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ственно тревог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неотвратимости надвигающейся катастроф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-боязливое возбужд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6929280" y="214200"/>
            <a:ext cx="1722600" cy="1785960"/>
          </a:xfrm>
          <a:prstGeom prst="rect">
            <a:avLst/>
          </a:prstGeom>
          <a:ln w="0">
            <a:noFill/>
          </a:ln>
        </p:spPr>
      </p:pic>
      <p:sp>
        <p:nvSpPr>
          <p:cNvPr id="363" name="Стрелка вправо 5"/>
          <p:cNvSpPr/>
          <p:nvPr/>
        </p:nvSpPr>
        <p:spPr>
          <a:xfrm>
            <a:off x="357120" y="457200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Стрелка вправо 6"/>
          <p:cNvSpPr/>
          <p:nvPr/>
        </p:nvSpPr>
        <p:spPr>
          <a:xfrm>
            <a:off x="35712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Стрелка вправо 7"/>
          <p:cNvSpPr/>
          <p:nvPr/>
        </p:nvSpPr>
        <p:spPr>
          <a:xfrm>
            <a:off x="7429680" y="492912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Стрелка вправо 8"/>
          <p:cNvSpPr/>
          <p:nvPr/>
        </p:nvSpPr>
        <p:spPr>
          <a:xfrm>
            <a:off x="371484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Стрелка вправо 9"/>
          <p:cNvSpPr/>
          <p:nvPr/>
        </p:nvSpPr>
        <p:spPr>
          <a:xfrm>
            <a:off x="357120" y="528624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Стрелка вправо 10"/>
          <p:cNvSpPr/>
          <p:nvPr/>
        </p:nvSpPr>
        <p:spPr>
          <a:xfrm>
            <a:off x="357120" y="56437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4543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СТРА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1143000"/>
          <a:ext cx="8186760" cy="4857840"/>
        </p:xfrm>
        <a:graphic>
          <a:graphicData uri="http://schemas.openxmlformats.org/drawingml/2006/table">
            <a:tbl>
              <a:tblPr/>
              <a:tblGrid>
                <a:gridCol w="4210200"/>
                <a:gridCol w="39765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ая определенная, специфичная эмо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да несет негативный отте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комбинация эмоций, где страх – лишь одна из н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 и в виде радостного волнения, волнующего ожи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рахе и в тревоге есть общий эмоциональный компонент в виде чувства волнения и беспокойства, т.е. в обоих понятиях отображено восприятие угрозы или отсутствие чувства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7682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Х И ТРЕВОГА ПО ЩЕРБАТЫХ Ю.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28760" y="1071720"/>
          <a:ext cx="8072280" cy="536724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и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на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ые 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до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во время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на псих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буждаю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мозя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стимулов, вызывающих эмоц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пределенный, абстрак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й, конкре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500040" y="428760"/>
          <a:ext cx="7786800" cy="600048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1711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в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цирована в буду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ом является прошлый травмирующий опы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мыслительных процессов в формировании психических ощу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изация в к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еаг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инктив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23572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ЮМ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4200" y="100008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эмоциональным переживанием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ое свойство челов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сть и страх различаются по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конкретности угрозы; направленности угрозы; способу реагирования человека; сложности организации переживания; интенсивности пережи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вершенная определенная, специфичная эмоция.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трев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омбинация эмоций, где страх – лишь одна из н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несет негативный оттенок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можна и в виде радостного волнения, волнующего ожид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4114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ЛИТЕРАТУРА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428840"/>
            <a:ext cx="77580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рбатых Ю.В. Ивлева Е.И. «Психофизиологические и клинические аспекты страха, тревоги и фобий». Воронеж. Истоки. 19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sy.1september.ru/articlef.php?ID=200400804. Статья: «ТРЕВОЖНОСТЬ, ТРЕВОГА, СТРАХ: РАЗЛИЧЕНИЕ ПОНЯТИЙ» - Игорь ВАЧКОВ, доктор психологических нау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рд  К.Э.  Психология эмоций  СПб., 199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2T18:50:53Z</dcterms:modified>
  <cp:revision>8</cp:revision>
  <dc:subject/>
  <dc:title>Эмоции тревоги и страха: сравнительная характерис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a0000000000010250600207f5200358026400</vt:lpwstr>
  </property>
</Properties>
</file>